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E882-D7D2-4D77-AF89-D7B81E56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D42-980C-42BF-937E-B63CC8EB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13A-9666-4B37-99BB-4342DEF1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2AA-C354-4937-AF3F-E4D95A35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43F-29C0-43BD-9DBA-4D7BD700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597-4225-400D-BB94-69C7001F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4E5F-B463-4970-BD53-148A5DBC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3B4F-4E4C-4E7B-A474-AB40F6CC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E366-4C88-43EE-962D-644DE5A4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DA13-130B-4D24-BDF0-D7FD8751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D6F4-4F91-49E6-87A6-865B1F68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891-0F60-446C-A238-A74DDCF2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6725-B065-457F-AE1D-2062739F6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05840"/>
            <a:ext cx="84582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 Clase 6IM (602)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5 de abril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8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te due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p.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361960" cy="1631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581280" y="533520"/>
            <a:ext cx="2362320" cy="1587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6172200" y="457200"/>
            <a:ext cx="2629080" cy="1733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3733920" y="3581280"/>
            <a:ext cx="2124000" cy="2152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5"/>
          <a:stretch/>
        </p:blipFill>
        <p:spPr>
          <a:xfrm>
            <a:off x="6172200" y="358128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6"/>
          <a:stretch/>
        </p:blipFill>
        <p:spPr>
          <a:xfrm>
            <a:off x="304920" y="3505320"/>
            <a:ext cx="2361960" cy="2047680"/>
          </a:xfrm>
          <a:prstGeom prst="rect">
            <a:avLst/>
          </a:prstGeom>
          <a:ln w="0">
            <a:noFill/>
          </a:ln>
        </p:spPr>
      </p:pic>
      <p:sp>
        <p:nvSpPr>
          <p:cNvPr id="49" name="Line 8"/>
          <p:cNvSpPr/>
          <p:nvPr/>
        </p:nvSpPr>
        <p:spPr>
          <a:xfrm flipH="1">
            <a:off x="685440" y="510552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2057400" y="48769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2209680" y="3962520"/>
            <a:ext cx="2286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12193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2590920" y="21337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 flipH="1">
            <a:off x="3657600" y="1981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5486400" y="1676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85280" y="259092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med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552960" y="29718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2347560" y="24382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/ la pa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4651560" y="22860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me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4650840" y="26668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doc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6522120" y="220968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consul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19800" y="57913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rec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1747440" y="556272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s past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1703520" y="59436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s píl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3584160" y="571500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farmacéu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6436800" y="541008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farmacéu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2202840" y="281952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/ la enfermo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28600" y="2895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La consul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La ci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Farmac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Caja de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Examin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Recet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D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Vend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Despach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¿Qué te pasa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ff"/>
                </a:solidFill>
                <a:latin typeface="Arial"/>
              </a:rPr>
              <a:t>¡Qué enfermo(a) estoy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379680" y="0"/>
            <a:ext cx="2259000" cy="2819520"/>
          </a:xfrm>
          <a:prstGeom prst="rect">
            <a:avLst/>
          </a:prstGeom>
          <a:ln w="0">
            <a:noFill/>
          </a:ln>
        </p:spPr>
      </p:pic>
      <p:sp>
        <p:nvSpPr>
          <p:cNvPr id="70" name="Line 4"/>
          <p:cNvSpPr/>
          <p:nvPr/>
        </p:nvSpPr>
        <p:spPr>
          <a:xfrm>
            <a:off x="5257800" y="1295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 flipH="1" flipV="1">
            <a:off x="3123720" y="1143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 flipV="1">
            <a:off x="4800600" y="609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 flipH="1">
            <a:off x="3048120" y="160020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4495680" y="19810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6099120" y="3049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os o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6086520" y="1066680"/>
            <a:ext cx="140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ore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uter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5718240" y="22096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b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1832040" y="16002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la na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2059560" y="76212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oí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ner ear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 flipH="1">
            <a:off x="2742840" y="236232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1518840" y="220968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cu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2163960" y="2830680"/>
            <a:ext cx="2312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consult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1596600" y="3200400"/>
            <a:ext cx="2361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appoint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1978560" y="3519360"/>
            <a:ext cx="2035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pharma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1905120" y="3900600"/>
            <a:ext cx="1431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ox of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>
            <a:off x="1834200" y="4205160"/>
            <a:ext cx="235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vb.)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exam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1673280" y="4586400"/>
            <a:ext cx="2538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vb.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o prescribe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1273680" y="4967280"/>
            <a:ext cx="1789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vb.)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g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3"/>
          <p:cNvSpPr/>
          <p:nvPr/>
        </p:nvSpPr>
        <p:spPr>
          <a:xfrm>
            <a:off x="1578960" y="5334120"/>
            <a:ext cx="169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vb.)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se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4"/>
          <p:cNvSpPr/>
          <p:nvPr/>
        </p:nvSpPr>
        <p:spPr>
          <a:xfrm>
            <a:off x="2030040" y="5638680"/>
            <a:ext cx="5059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vb.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o fulfill, to deal with, to dispat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5"/>
          <p:cNvSpPr/>
          <p:nvPr/>
        </p:nvSpPr>
        <p:spPr>
          <a:xfrm>
            <a:off x="2567520" y="6019920"/>
            <a:ext cx="213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3713040" y="6338880"/>
            <a:ext cx="188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 am so sick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p. 53 en voz 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Ejercicio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4 (1-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EL MINI-PROYECTO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53352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808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NI PROY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Ej. 17 p. 51 AS A MODEL, write a letter to HELEN in Spanish, TYPED &amp; DOUBLE SPACED. Tell m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you are?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Where you are f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yourself (3 characteristics)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ow old are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s your birthday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Where do you l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people are in your family?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Who are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y like? (2 characteristics ea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live in a private house or apart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your house or apartment li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you like to do? (2 activiti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sk me 5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IT IS WRITTEN IN A LETTER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MONDAY APRIL 22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20:30:10Z</dcterms:created>
  <dc:creator>Helen Zumaeta</dc:creator>
  <dc:description/>
  <dc:language>en-US</dc:language>
  <cp:lastModifiedBy>Helen Zumaeta</cp:lastModifiedBy>
  <cp:lastPrinted>2013-04-12T19:15:40Z</cp:lastPrinted>
  <dcterms:modified xsi:type="dcterms:W3CDTF">2013-04-12T20:07:58Z</dcterms:modified>
  <cp:revision>9</cp:revision>
  <dc:subject/>
  <dc:title>Me llamo _________ Clase 7 IL La fecha es el 17 de diciembre del 2012</dc:title>
</cp:coreProperties>
</file>